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6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20.jpeg" ContentType="image/jpeg"/>
  <Override PartName="/ppt/media/image30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31.png" ContentType="image/png"/>
  <Override PartName="/ppt/media/image1.png" ContentType="image/png"/>
  <Override PartName="/ppt/media/image14.png" ContentType="image/png"/>
  <Override PartName="/ppt/media/image24.jpeg" ContentType="image/jpeg"/>
  <Override PartName="/ppt/media/image16.png" ContentType="image/png"/>
  <Override PartName="/ppt/media/image15.png" ContentType="image/png"/>
  <Override PartName="/ppt/media/image18.jpeg" ContentType="image/jpeg"/>
  <Override PartName="/ppt/media/image9.png" ContentType="image/png"/>
  <Override PartName="/ppt/media/image22.jpeg" ContentType="image/jpeg"/>
  <Override PartName="/ppt/media/image12.png" ContentType="image/png"/>
  <Override PartName="/ppt/media/image23.jpeg" ContentType="image/jpeg"/>
  <Override PartName="/ppt/media/image28.png" ContentType="image/png"/>
  <Override PartName="/ppt/media/image7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66012-64F0-40B7-8A96-1211C6BBC23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140D7-3E13-4AA7-B742-3AB8A71F52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5114E-3780-4AB9-91B5-93A072BABB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99814-28B9-4385-9C34-84B8FA112C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F2E0-B9D9-4BC0-B049-A313F736C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3EBC-BD9C-45FA-8FAF-FC9D9804C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7640-F75E-491C-A290-60FEAD3C6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F6D8-5148-4A60-AAE6-DAE5043C1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3641C-693E-4F20-97B9-A6FAFAB2E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FB9A1-2012-40B5-8C03-1D845C29D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A6D07-45EA-475D-828F-6EC3D3A0F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2890B-CA17-410C-BE1E-BC45A3279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C28FB-9A53-4F0D-A187-FF3E49F0D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2AA75-DE53-42D3-9F74-5F51E2756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E9301-2462-4FBA-9BED-0A293D6C0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2C94-B228-468A-B5AD-ABDD2B1CB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CA2BB-8442-4697-9824-518D18470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FA8A6-EB1D-4ADA-B328-8BB487AE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5361A-3979-4202-88F0-2FBEFCBBB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DBC97-F3A8-4CE2-A489-E88B8082F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FF3A9-2A77-42BB-AE0F-0D123F632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5D875-5999-4E79-8A64-DA60BE598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756CA-D007-4480-B704-EA296E3AE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73554-E644-4553-AD33-DC4FC0E66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1DDCD-C5EC-4676-A7AA-F36A774C1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EAC97-BC46-4F5D-B434-7E86C5126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700F-D74A-41AD-96DB-7B87068D8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109FE-6395-45E4-A727-1A7D6E463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B6916-B6C4-4107-821F-6E144290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E218F-0DE7-46DB-BD32-F17EE75F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2B210-AC0D-41A8-8132-10FC77A33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87214-0262-4230-BA47-56DCCC7FB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7A6E0-47AE-4298-AA02-3029D82D7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078F2-97D2-4437-8499-170ED69C5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5D35F-93FB-4CF5-9D47-69FC7140F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438EB-B857-45A1-AB26-66187C55A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86DE4-5144-4254-8289-0A478FE1E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B2D2-0C53-4FE7-ADDA-FA0E11F00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BF58F-2FDF-409C-9151-4A379CD38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8B55E-F716-4A19-8739-D2B9C22B8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0597C-6E13-4F07-ABCB-951F42125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6A585-D55B-454A-92C2-42583A2B1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74307-B0CF-4E01-ABD9-7BC6F665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4445B-33EE-4308-BAD2-ED5B55CE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C4137-3325-42DA-BBC3-165009AC5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5C471-74FD-4A9C-AC53-50B787C54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E69E6-2BE3-4217-AE18-394C97140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56C767-7AE0-45EC-9191-4518B0391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4EAD-7C1A-4EFD-B4A6-A2708913E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E09D1E-D611-43F1-BA40-9C558BB5B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A380D-1E33-4275-BB78-A8833E9EF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AB33D6-9583-4F72-9A53-C1079B4AB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24D2EE-E591-4802-A8A2-5D6C7483E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E8AE52-9D9A-40C1-B58A-F3A2DCCB7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294F6F-D4C9-4490-BD2B-EDF97F41D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8803B-C28E-4547-AC5A-CB0FFFD1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A4787-5431-4434-9DE8-653372935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F8373-D928-4A27-A127-715A2D38E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A04D13-52D7-488F-A00E-C52FBA9C7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EC18-B17E-4CDA-98BD-CF43C44CC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77D85F-9B27-42EC-AC72-1F5CE703F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6F40E8-B6EC-49E9-8FAA-4783E2EA5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BBFF96-821B-466B-B2E9-E14E0B414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A3C6F4-F282-44A5-BBB4-0B967C543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1DF3D7-E09E-4142-BAD2-3A12756BF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69A042-C69E-4554-8DC1-E182693C6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F917A9-70E2-4DD6-A889-A6A81B5F0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BF6EFC-4A45-47FD-B01C-068919B9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0560E3-E828-4AFA-A54B-8BC893E8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5CA813-8C0D-4F29-AF08-E08422127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C690-FB67-4306-A8F4-DF565D372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E7EF73-4FF3-4CBF-AD75-AF0F76481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0C56EA-DAD6-44D7-9BEA-CDA426F12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DD0B17-105F-4C3D-A8CE-0541FD573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05EB3F-D2D2-4347-A6A6-1C3370758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FE7D8A-6B5F-483C-8C80-CF6BBA274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288B92-CEEB-4607-8742-272F0083F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61A982-1AF8-4752-A398-477F5C039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891E9C-56C2-4010-B020-7CADDBBC6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5A2714-8862-4CC2-B20A-325EB095B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9CED97-9A69-48A9-90DE-070CFAE1C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CD99-C9C3-4C24-AF30-3ED4D0B71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254442-502F-4D20-93E8-357B5D8E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BB319E-5B5F-408C-B16B-521F1A62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FA97CF-4C0B-4F28-922F-E6B4F9088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EB13F3-53DF-440D-B1E3-2F6063940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30D4B0-9CBF-4D68-BF61-BC6D616F5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5EC563-5E7F-406B-A839-4686259E7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DA11B8-1F33-436F-9DD2-A5081E2B4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3ADA66-6725-4870-A881-B706427E3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67EC75-1DCB-444E-918D-C37283AF0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2381C5-F997-424D-810D-A59A47000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DBFE-68E8-4960-B282-1696A613E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C35385-9997-4DC5-B111-ED9884947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1D3F81-D66C-4759-96C7-CC0FB047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101891-4122-4F9C-BE7D-7A73473BB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13730F-FA81-4EBD-B5B6-69ED1BC8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07ABDD-36C6-4902-8D9F-75F2FD6AE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CE3196-FEC0-42D8-9700-F9C84ADA7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F7B379-B58B-44A6-BAC7-14A1210C5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2A370-E5C4-4C2E-AB84-79CD6083934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714EC-083F-4493-A3FB-B2BD6EFB98E5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34283-5723-4511-AC66-B7423C19CF50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2120E-97CE-4433-B01D-4D2A23374147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D3A41-DA0C-467C-A523-6211EE26E10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B9F8B-4CD2-4F6E-B515-DDACD20B131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8A91E-AF74-46C5-BF80-6E7D518604B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A15DF-AD2B-411E-ADEC-BB6D795FB122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2" descr="Timor_ppt_bkg_printing"/>
          <p:cNvPicPr/>
          <p:nvPr/>
        </p:nvPicPr>
        <p:blipFill>
          <a:blip r:embed="rId1"/>
          <a:stretch/>
        </p:blipFill>
        <p:spPr>
          <a:xfrm>
            <a:off x="838080" y="2209680"/>
            <a:ext cx="7543800" cy="3732480"/>
          </a:xfrm>
          <a:prstGeom prst="rect">
            <a:avLst/>
          </a:prstGeom>
          <a:ln w="0">
            <a:noFill/>
          </a:ln>
        </p:spPr>
      </p:pic>
      <p:pic>
        <p:nvPicPr>
          <p:cNvPr id="378" name="Subtitle 2" descr=""/>
          <p:cNvPicPr/>
          <p:nvPr/>
        </p:nvPicPr>
        <p:blipFill>
          <a:blip r:embed="rId2"/>
          <a:stretch/>
        </p:blipFill>
        <p:spPr>
          <a:xfrm>
            <a:off x="-55440" y="0"/>
            <a:ext cx="4494240" cy="554040"/>
          </a:xfrm>
          <a:prstGeom prst="rect">
            <a:avLst/>
          </a:prstGeom>
          <a:ln w="0">
            <a:noFill/>
          </a:ln>
        </p:spPr>
      </p:pic>
      <p:sp>
        <p:nvSpPr>
          <p:cNvPr id="379" name="Title 1"/>
          <p:cNvSpPr/>
          <p:nvPr/>
        </p:nvSpPr>
        <p:spPr>
          <a:xfrm>
            <a:off x="609480" y="14479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Sans Unicode"/>
              </a:rPr>
              <a:t>COUNTRY REPOR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4"/>
          <p:cNvSpPr/>
          <p:nvPr/>
        </p:nvSpPr>
        <p:spPr>
          <a:xfrm>
            <a:off x="2936160" y="2666880"/>
            <a:ext cx="32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Jakarta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.Sep, 1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Lucida Sans Unicode"/>
              </a:rPr>
              <a:t>th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 20</a:t>
            </a:r>
            <a:r>
              <a:rPr b="0" lang="id-ID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1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Rectangle 6"/>
          <p:cNvGrpSpPr/>
          <p:nvPr/>
        </p:nvGrpSpPr>
        <p:grpSpPr>
          <a:xfrm>
            <a:off x="731880" y="4638600"/>
            <a:ext cx="8040600" cy="1841400"/>
            <a:chOff x="731880" y="4638600"/>
            <a:chExt cx="8040600" cy="1841400"/>
          </a:xfrm>
        </p:grpSpPr>
        <p:pic>
          <p:nvPicPr>
            <p:cNvPr id="382" name="Rectangle 6" descr=""/>
            <p:cNvPicPr/>
            <p:nvPr/>
          </p:nvPicPr>
          <p:blipFill>
            <a:blip r:embed="rId3"/>
            <a:stretch/>
          </p:blipFill>
          <p:spPr>
            <a:xfrm>
              <a:off x="731880" y="4638600"/>
              <a:ext cx="8040600" cy="184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"/>
            <p:cNvSpPr/>
            <p:nvPr/>
          </p:nvSpPr>
          <p:spPr>
            <a:xfrm>
              <a:off x="838080" y="4800600"/>
              <a:ext cx="77724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Lucida Sans Unicode"/>
                </a:rPr>
                <a:t>National Directorate of Meteorology and Geophysics of  Timor-Leste (DNMG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Title 3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304560" y="1481040"/>
            <a:ext cx="8305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NMG Collected Data from </a:t>
            </a:r>
            <a:r>
              <a:rPr b="0" lang="en-A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52-1974</a:t>
            </a:r>
            <a:r>
              <a:rPr b="0" lang="id-ID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Portuguese time)</a:t>
            </a:r>
            <a:r>
              <a:rPr b="0" lang="en-A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fter </a:t>
            </a:r>
            <a:r>
              <a:rPr b="0" lang="en-A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NMG established DNM</a:t>
            </a:r>
            <a:r>
              <a:rPr b="0" lang="id-ID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r>
              <a:rPr b="0" lang="en-A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gan collecting data in 2003 until now and the data DNMG takes is rainfall (monthly data), but data for now is only data from</a:t>
            </a:r>
            <a:r>
              <a:rPr b="0" lang="id-ID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A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ucau </a:t>
            </a:r>
            <a:r>
              <a:rPr b="0" lang="id-ID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rict </a:t>
            </a:r>
            <a:r>
              <a:rPr b="0" lang="en-A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Dili. The data for Oe-cusse</a:t>
            </a:r>
            <a:r>
              <a:rPr b="0" lang="id-ID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strict</a:t>
            </a:r>
            <a:r>
              <a:rPr b="0" lang="en-A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we start taking in 2015 because of new tools installed in 2015.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Box 1"/>
          <p:cNvSpPr/>
          <p:nvPr/>
        </p:nvSpPr>
        <p:spPr>
          <a:xfrm>
            <a:off x="152280" y="15228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70c0"/>
                </a:solidFill>
                <a:latin typeface="Lucida Sans Unicode"/>
              </a:rPr>
              <a:t>Examples of weather foreca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2"/>
          <p:cNvSpPr/>
          <p:nvPr/>
        </p:nvSpPr>
        <p:spPr>
          <a:xfrm>
            <a:off x="304920" y="733320"/>
            <a:ext cx="8381880" cy="60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Lucida Sans Unicode"/>
              </a:rPr>
              <a:t>BOM: Forecast - Timor Leste (NT) [SEC=UNCLASSIFIED] (11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DD10170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Australian Government Bureau of Meteorology 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Northern Territory</a:t>
            </a:r>
            <a:br>
              <a:rPr sz="1400"/>
            </a:b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Timor Leste Weather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Issued at 1645 on Thursday the 10th of September 2015</a:t>
            </a:r>
            <a:br>
              <a:rPr sz="1400"/>
            </a:b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Forecast for tonight and Friday: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Partly cloudy, clearing this evening. Mostly sunny tomorrow apart from some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cloud about the ranges and southern coast. Light to moderate east to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southeasterly winds, with moderate seabreezes from mid-morning.</a:t>
            </a:r>
            <a:br>
              <a:rPr sz="1400"/>
            </a:b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Dili: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Partly cloudy, clearing this evening. Mostly sunny tomorrow. Light southeasterly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winds before a moderate northeasterly sea breeze from mid-morning.</a:t>
            </a:r>
            <a:br>
              <a:rPr sz="1400"/>
            </a:b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Min: 21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Max: 30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Outlook for the next two days: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The chance of isolated afternoon showers on and south of the ranges. Mostly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sunny elsewhere. Winds tending moderate east to southeasterly, with moderate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mid-morning sea breez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IDW20840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Australian Government Bureau of Meteorology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Western Australia</a:t>
            </a:r>
            <a:br>
              <a:rPr sz="1400"/>
            </a:br>
            <a:r>
              <a:rPr b="0" lang="en-AU" sz="1400" spc="-1" strike="noStrike">
                <a:solidFill>
                  <a:srgbClr val="000000"/>
                </a:solidFill>
                <a:latin typeface="Lucida Sans Unicode"/>
              </a:rPr>
              <a:t>Perth Regional Forecasting Centr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Need add more staff with high capacity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Improve capacity with the training in area Forecasting, observation, instrument calibrating, models, etc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Stablish new Headquarter with the modern system for the Meteorology, Climatology and Geophysic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700" spc="-1" strike="noStrike">
                <a:solidFill>
                  <a:srgbClr val="000000"/>
                </a:solidFill>
                <a:latin typeface="Lucida Sans Unicode"/>
              </a:rPr>
              <a:t>Stablish new AWS in other Municipal (at list 12 more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Content Placeholder 2"/>
          <p:cNvSpPr/>
          <p:nvPr/>
        </p:nvSpPr>
        <p:spPr>
          <a:xfrm>
            <a:off x="228600" y="762120"/>
            <a:ext cx="84582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b0f0"/>
                </a:solidFill>
                <a:latin typeface="Lucida Sans Unicode"/>
              </a:rPr>
              <a:t>Support and Cooperation Partners country in Application Data Information with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Lucida Sans Unicode"/>
              </a:rPr>
              <a:t>BoM       Provide forecast for Aviation and Tropical Cyclone adversary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Lucida Sans Unicode"/>
              </a:rPr>
              <a:t>RIMES       Provide three days forecast and Earthquake and Tsunami inform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Lucida Sans Unicode"/>
              </a:rPr>
              <a:t>JMA        Provide Satellite Imagery (SATAID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900" spc="-1" strike="noStrike">
                <a:solidFill>
                  <a:srgbClr val="000000"/>
                </a:solidFill>
                <a:latin typeface="Lucida Sans Unicode"/>
              </a:rPr>
              <a:t>BMKG        on going process signing MOU to provide technical assistant for training and calibration instrument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 Unicode"/>
              </a:rPr>
              <a:t>Government instances: Agriculture, Water Resources, Mineral Resources and NGO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ight Arrow 3"/>
          <p:cNvSpPr/>
          <p:nvPr/>
        </p:nvSpPr>
        <p:spPr>
          <a:xfrm flipV="1">
            <a:off x="1368360" y="1539720"/>
            <a:ext cx="457200" cy="152640"/>
          </a:xfrm>
          <a:prstGeom prst="rightArrow">
            <a:avLst>
              <a:gd name="adj1" fmla="val 50000"/>
              <a:gd name="adj2" fmla="val 49921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ight Arrow 5"/>
          <p:cNvSpPr/>
          <p:nvPr/>
        </p:nvSpPr>
        <p:spPr>
          <a:xfrm flipV="1">
            <a:off x="1554120" y="2209680"/>
            <a:ext cx="457200" cy="152640"/>
          </a:xfrm>
          <a:prstGeom prst="rightArrow">
            <a:avLst>
              <a:gd name="adj1" fmla="val 50000"/>
              <a:gd name="adj2" fmla="val 49921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ight Arrow 6"/>
          <p:cNvSpPr/>
          <p:nvPr/>
        </p:nvSpPr>
        <p:spPr>
          <a:xfrm flipV="1">
            <a:off x="1387440" y="2895480"/>
            <a:ext cx="457200" cy="152640"/>
          </a:xfrm>
          <a:prstGeom prst="rightArrow">
            <a:avLst>
              <a:gd name="adj1" fmla="val 50000"/>
              <a:gd name="adj2" fmla="val 49921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ight Arrow 7"/>
          <p:cNvSpPr/>
          <p:nvPr/>
        </p:nvSpPr>
        <p:spPr>
          <a:xfrm flipV="1">
            <a:off x="1593720" y="3352680"/>
            <a:ext cx="457200" cy="152640"/>
          </a:xfrm>
          <a:prstGeom prst="rightArrow">
            <a:avLst>
              <a:gd name="adj1" fmla="val 50000"/>
              <a:gd name="adj2" fmla="val 49921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Title 2" descr=""/>
          <p:cNvPicPr/>
          <p:nvPr/>
        </p:nvPicPr>
        <p:blipFill>
          <a:blip r:embed="rId1"/>
          <a:stretch/>
        </p:blipFill>
        <p:spPr>
          <a:xfrm>
            <a:off x="-237960" y="268200"/>
            <a:ext cx="8931240" cy="29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Rectangle 3" descr=""/>
          <p:cNvPicPr/>
          <p:nvPr/>
        </p:nvPicPr>
        <p:blipFill>
          <a:blip r:embed="rId1"/>
          <a:stretch/>
        </p:blipFill>
        <p:spPr>
          <a:xfrm>
            <a:off x="603360" y="195120"/>
            <a:ext cx="8138880" cy="11160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2" descr="D:\meteo_contry_report\20090504181022!Diplomatic_missions_in_Timor-Leste.png"/>
          <p:cNvPicPr/>
          <p:nvPr/>
        </p:nvPicPr>
        <p:blipFill>
          <a:blip r:embed="rId2"/>
          <a:stretch/>
        </p:blipFill>
        <p:spPr>
          <a:xfrm>
            <a:off x="378000" y="1596960"/>
            <a:ext cx="8467560" cy="5267520"/>
          </a:xfrm>
          <a:prstGeom prst="rect">
            <a:avLst/>
          </a:prstGeom>
          <a:ln w="0">
            <a:noFill/>
          </a:ln>
        </p:spPr>
      </p:pic>
      <p:sp>
        <p:nvSpPr>
          <p:cNvPr id="386" name="Down Arrow 5"/>
          <p:cNvSpPr/>
          <p:nvPr/>
        </p:nvSpPr>
        <p:spPr>
          <a:xfrm>
            <a:off x="7238880" y="4038480"/>
            <a:ext cx="76320" cy="914400"/>
          </a:xfrm>
          <a:prstGeom prst="downArrow">
            <a:avLst>
              <a:gd name="adj1" fmla="val 50000"/>
              <a:gd name="adj2" fmla="val 52196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3" descr="areamap"/>
          <p:cNvPicPr/>
          <p:nvPr/>
        </p:nvPicPr>
        <p:blipFill>
          <a:blip r:embed="rId3"/>
          <a:stretch/>
        </p:blipFill>
        <p:spPr>
          <a:xfrm>
            <a:off x="987480" y="3803760"/>
            <a:ext cx="3895560" cy="261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7 0.125 0.16667 C 0.125 0.25867 0.069 0.33333 0 0.33333 C -0.069 0.33333 -0.125 0.25867 -0.125 0.16667 C -0.125 0.07467 -0.069 0 0 0 Z">
                                      <p:cBhvr>
                                        <p:cTn id="6" dur="2000" fill="hold"/>
                                        <p:tgtEl>
                                          <p:spTgt spid="3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228240" y="-360"/>
            <a:ext cx="48769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4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Sans Unicode"/>
              </a:rPr>
              <a:t>Democratic Republic of Timor-Leste 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9" name="Down Arrow 5"/>
          <p:cNvSpPr/>
          <p:nvPr/>
        </p:nvSpPr>
        <p:spPr>
          <a:xfrm>
            <a:off x="7315200" y="3124080"/>
            <a:ext cx="76320" cy="914400"/>
          </a:xfrm>
          <a:prstGeom prst="downArrow">
            <a:avLst>
              <a:gd name="adj1" fmla="val 50000"/>
              <a:gd name="adj2" fmla="val 52196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2" descr="D:\meteo_contry_report\timor.gif"/>
          <p:cNvPicPr/>
          <p:nvPr/>
        </p:nvPicPr>
        <p:blipFill>
          <a:blip r:embed="rId1"/>
          <a:stretch/>
        </p:blipFill>
        <p:spPr>
          <a:xfrm>
            <a:off x="103320" y="212760"/>
            <a:ext cx="8613720" cy="6669000"/>
          </a:xfrm>
          <a:prstGeom prst="rect">
            <a:avLst/>
          </a:prstGeom>
          <a:ln w="0">
            <a:noFill/>
          </a:ln>
        </p:spPr>
      </p:pic>
      <p:pic>
        <p:nvPicPr>
          <p:cNvPr id="391" name="Rectangle 6" descr=""/>
          <p:cNvPicPr/>
          <p:nvPr/>
        </p:nvPicPr>
        <p:blipFill>
          <a:blip r:embed="rId2"/>
          <a:stretch/>
        </p:blipFill>
        <p:spPr>
          <a:xfrm>
            <a:off x="228600" y="504720"/>
            <a:ext cx="2514600" cy="2772000"/>
          </a:xfrm>
          <a:prstGeom prst="rect">
            <a:avLst/>
          </a:prstGeom>
          <a:ln w="9360">
            <a:solidFill>
              <a:srgbClr val="ccffff"/>
            </a:solidFill>
            <a:miter/>
          </a:ln>
        </p:spPr>
      </p:pic>
      <p:sp>
        <p:nvSpPr>
          <p:cNvPr id="392" name="Rectangle 3"/>
          <p:cNvSpPr/>
          <p:nvPr/>
        </p:nvSpPr>
        <p:spPr>
          <a:xfrm>
            <a:off x="-1409760" y="631800"/>
            <a:ext cx="28195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Rectangle 9" descr=""/>
          <p:cNvPicPr/>
          <p:nvPr/>
        </p:nvPicPr>
        <p:blipFill>
          <a:blip r:embed="rId3"/>
          <a:stretch/>
        </p:blipFill>
        <p:spPr>
          <a:xfrm>
            <a:off x="5943600" y="2292480"/>
            <a:ext cx="321948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NMG established early 2003  under the ministry of Infrastructur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ince the referendum held on September 1999 all Meteorology Services were destroyed in Dili Capital and other districts in Timor-Leste. During the UNTAET period in Timor-Leste meteorology service were provided by Bureau of Meteorology Australia (BoM) in Darwin (just for aviation up to date)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NMG become member of  WMO on 4 December 2009 (</a:t>
            </a:r>
            <a:r>
              <a:rPr b="0" lang="id-ID" sz="2300" spc="-1" strike="noStrike">
                <a:solidFill>
                  <a:srgbClr val="000000"/>
                </a:solidFill>
                <a:latin typeface="Lucida Sans Unicode"/>
              </a:rPr>
              <a:t>1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89 </a:t>
            </a:r>
            <a:r>
              <a:rPr b="0" lang="en-US" sz="2300" spc="-1" strike="noStrike" baseline="30000">
                <a:solidFill>
                  <a:srgbClr val="000000"/>
                </a:solidFill>
                <a:latin typeface="Lucida Sans Unicode"/>
              </a:rPr>
              <a:t>th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Lucida Sans Unicode"/>
              </a:rPr>
              <a:t>Current</a:t>
            </a:r>
            <a:r>
              <a:rPr b="0" lang="id-ID" sz="2300" spc="-1" strike="noStrike">
                <a:solidFill>
                  <a:srgbClr val="000000"/>
                </a:solidFill>
                <a:latin typeface="Lucida Sans Unicode"/>
              </a:rPr>
              <a:t>ly</a:t>
            </a:r>
            <a:r>
              <a:rPr b="0" lang="en-AU" sz="2300" spc="-1" strike="noStrike">
                <a:solidFill>
                  <a:srgbClr val="000000"/>
                </a:solidFill>
                <a:latin typeface="Lucida Sans Unicode"/>
              </a:rPr>
              <a:t>, DNMG office in DILI, under the Ministry of Public Work</a:t>
            </a:r>
            <a:r>
              <a:rPr b="0" lang="id-ID" sz="2300" spc="-1" strike="noStrike">
                <a:solidFill>
                  <a:srgbClr val="000000"/>
                </a:solidFill>
                <a:latin typeface="Lucida Sans Unicode"/>
              </a:rPr>
              <a:t>s</a:t>
            </a:r>
            <a:r>
              <a:rPr b="0" lang="en-AU" sz="2300" spc="-1" strike="noStrike">
                <a:solidFill>
                  <a:srgbClr val="000000"/>
                </a:solidFill>
                <a:latin typeface="Lucida Sans Unicode"/>
              </a:rPr>
              <a:t>, Transport and Communications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Lucida Sans Unicode"/>
              </a:rPr>
              <a:t>With 2</a:t>
            </a:r>
            <a:r>
              <a:rPr b="0" lang="id-ID" sz="2300" spc="-1" strike="noStrike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en-AU" sz="2300" spc="-1" strike="noStrike">
                <a:solidFill>
                  <a:srgbClr val="000000"/>
                </a:solidFill>
                <a:latin typeface="Lucida Sans Unicode"/>
              </a:rPr>
              <a:t> staff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24" descr="DSC02264"/>
          <p:cNvPicPr/>
          <p:nvPr/>
        </p:nvPicPr>
        <p:blipFill>
          <a:blip r:embed="rId1"/>
          <a:stretch/>
        </p:blipFill>
        <p:spPr>
          <a:xfrm>
            <a:off x="4572000" y="4191120"/>
            <a:ext cx="4343400" cy="2666880"/>
          </a:xfrm>
          <a:prstGeom prst="rect">
            <a:avLst/>
          </a:prstGeom>
          <a:ln w="0">
            <a:noFill/>
          </a:ln>
        </p:spPr>
      </p:pic>
      <p:sp>
        <p:nvSpPr>
          <p:cNvPr id="397" name="Rectangle 16"/>
          <p:cNvSpPr/>
          <p:nvPr/>
        </p:nvSpPr>
        <p:spPr>
          <a:xfrm>
            <a:off x="228600" y="0"/>
            <a:ext cx="3886200" cy="30492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Facilities Infrastructure of DNM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8" descr="DSC02276"/>
          <p:cNvPicPr/>
          <p:nvPr/>
        </p:nvPicPr>
        <p:blipFill>
          <a:blip r:embed="rId2"/>
          <a:stretch/>
        </p:blipFill>
        <p:spPr>
          <a:xfrm>
            <a:off x="5791320" y="1523880"/>
            <a:ext cx="3352680" cy="228600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9" descr="100_5752"/>
          <p:cNvPicPr/>
          <p:nvPr/>
        </p:nvPicPr>
        <p:blipFill>
          <a:blip r:embed="rId3"/>
          <a:stretch/>
        </p:blipFill>
        <p:spPr>
          <a:xfrm>
            <a:off x="0" y="4172040"/>
            <a:ext cx="4267080" cy="268596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2" descr=""/>
          <p:cNvPicPr/>
          <p:nvPr/>
        </p:nvPicPr>
        <p:blipFill>
          <a:blip r:embed="rId4"/>
          <a:stretch/>
        </p:blipFill>
        <p:spPr>
          <a:xfrm>
            <a:off x="0" y="1600200"/>
            <a:ext cx="5791320" cy="289548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23" descr="DSC02288"/>
          <p:cNvPicPr/>
          <p:nvPr/>
        </p:nvPicPr>
        <p:blipFill>
          <a:blip r:embed="rId5"/>
          <a:stretch/>
        </p:blipFill>
        <p:spPr>
          <a:xfrm>
            <a:off x="4884840" y="4314960"/>
            <a:ext cx="3517920" cy="2638440"/>
          </a:xfrm>
          <a:prstGeom prst="rect">
            <a:avLst/>
          </a:prstGeom>
          <a:ln w="0">
            <a:noFill/>
          </a:ln>
        </p:spPr>
      </p:pic>
      <p:sp>
        <p:nvSpPr>
          <p:cNvPr id="402" name="TextBox 8"/>
          <p:cNvSpPr/>
          <p:nvPr/>
        </p:nvSpPr>
        <p:spPr>
          <a:xfrm>
            <a:off x="609480" y="3808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Times New Roman"/>
              </a:rPr>
              <a:t>2 Automatic Weather Station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(2 synoptic st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nual Weather 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Times New Roman"/>
              </a:rPr>
              <a:t>CliDe System for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1"/>
          <p:cNvSpPr/>
          <p:nvPr/>
        </p:nvSpPr>
        <p:spPr>
          <a:xfrm>
            <a:off x="304920" y="0"/>
            <a:ext cx="4647960" cy="12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00000"/>
              </a:lnSpc>
              <a:spcBef>
                <a:spcPts val="1800"/>
              </a:spcBef>
              <a:buClr>
                <a:srgbClr val="ff8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 Unicode"/>
              </a:rPr>
              <a:t>DNMG </a:t>
            </a:r>
            <a:r>
              <a:rPr b="1" lang="id-ID" sz="2800" spc="-1" strike="noStrike">
                <a:solidFill>
                  <a:srgbClr val="000000"/>
                </a:solidFill>
                <a:latin typeface="Lucida Sans Unicode"/>
              </a:rPr>
              <a:t>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Lucida Sans Unicode"/>
              </a:rPr>
              <a:t>Observation and monitoring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2"/>
          <p:cNvSpPr/>
          <p:nvPr/>
        </p:nvSpPr>
        <p:spPr>
          <a:xfrm>
            <a:off x="609480" y="106668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Lucida Sans Unicode"/>
              </a:rPr>
              <a:t>Collected data from AWS and Manual Obser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4" descr="C:\Users\Main User\Pictures\Foto Act Servico DNMG 2008\Actividade Obs1.JPG"/>
          <p:cNvPicPr/>
          <p:nvPr/>
        </p:nvPicPr>
        <p:blipFill>
          <a:blip r:embed="rId1"/>
          <a:stretch/>
        </p:blipFill>
        <p:spPr>
          <a:xfrm>
            <a:off x="6400800" y="609480"/>
            <a:ext cx="2362320" cy="17719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C:\Users\Main User\Pictures\Foto Act Servico DNMG 2008\AWS.JPG"/>
          <p:cNvPicPr/>
          <p:nvPr/>
        </p:nvPicPr>
        <p:blipFill>
          <a:blip r:embed="rId2"/>
          <a:stretch/>
        </p:blipFill>
        <p:spPr>
          <a:xfrm>
            <a:off x="6400800" y="2514600"/>
            <a:ext cx="2371680" cy="1779480"/>
          </a:xfrm>
          <a:prstGeom prst="rect">
            <a:avLst/>
          </a:prstGeom>
          <a:ln w="0">
            <a:noFill/>
          </a:ln>
        </p:spPr>
      </p:pic>
      <p:sp>
        <p:nvSpPr>
          <p:cNvPr id="407" name="Right Arrow 3"/>
          <p:cNvSpPr/>
          <p:nvPr/>
        </p:nvSpPr>
        <p:spPr>
          <a:xfrm>
            <a:off x="2286000" y="167652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6"/>
          <p:cNvSpPr/>
          <p:nvPr/>
        </p:nvSpPr>
        <p:spPr>
          <a:xfrm>
            <a:off x="3124080" y="1676520"/>
            <a:ext cx="19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Lucida Sans Unicode"/>
              </a:rPr>
              <a:t>Entry to Data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2" descr="C:\Users\Main User\Pictures\Foto Act Servico DNMG 2008\Act. weather forecaster2.JPG"/>
          <p:cNvPicPr/>
          <p:nvPr/>
        </p:nvPicPr>
        <p:blipFill>
          <a:blip r:embed="rId3"/>
          <a:stretch/>
        </p:blipFill>
        <p:spPr>
          <a:xfrm>
            <a:off x="609480" y="2247840"/>
            <a:ext cx="5131080" cy="3848040"/>
          </a:xfrm>
          <a:prstGeom prst="rect">
            <a:avLst/>
          </a:prstGeom>
          <a:ln w="0">
            <a:noFill/>
          </a:ln>
        </p:spPr>
      </p:pic>
      <p:sp>
        <p:nvSpPr>
          <p:cNvPr id="410" name="TextBox 4"/>
          <p:cNvSpPr/>
          <p:nvPr/>
        </p:nvSpPr>
        <p:spPr>
          <a:xfrm>
            <a:off x="6705720" y="5105520"/>
            <a:ext cx="182880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Lucida Sans Unicode"/>
              </a:rPr>
              <a:t>Analysis of RIMES NWP 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1" name="Elbow Connector 9"/>
          <p:cNvCxnSpPr/>
          <p:nvPr/>
        </p:nvCxnSpPr>
        <p:spPr>
          <a:xfrm>
            <a:off x="5737320" y="4952520"/>
            <a:ext cx="892800" cy="477000"/>
          </a:xfrm>
          <a:prstGeom prst="bentConnector3">
            <a:avLst>
              <a:gd name="adj1" fmla="val 49979"/>
            </a:avLst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457200" y="148104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ff"/>
                </a:solidFill>
                <a:latin typeface="Lucida Sans Unicode"/>
              </a:rPr>
              <a:t>For </a:t>
            </a:r>
            <a:r>
              <a:rPr b="0" lang="en-AU" sz="2800" spc="-1" strike="noStrike">
                <a:solidFill>
                  <a:srgbClr val="ffffff"/>
                </a:solidFill>
                <a:latin typeface="Lucida Sans Unicode"/>
              </a:rPr>
              <a:t>Hydrology there are </a:t>
            </a:r>
            <a:r>
              <a:rPr b="0" lang="id-ID" sz="2800" spc="-1" strike="noStrike">
                <a:solidFill>
                  <a:srgbClr val="ffffff"/>
                </a:solidFill>
                <a:latin typeface="Lucida Sans Unicode"/>
              </a:rPr>
              <a:t>7th</a:t>
            </a:r>
            <a:r>
              <a:rPr b="0" lang="en-AU" sz="2800" spc="-1" strike="noStrike">
                <a:solidFill>
                  <a:srgbClr val="ffffff"/>
                </a:solidFill>
                <a:latin typeface="Lucida Sans Unicode"/>
              </a:rPr>
              <a:t> automatic and manual weather station and 14 water level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Lucida Sans Unicode"/>
              </a:rPr>
              <a:t>Hydrology there are five water level monitoring stations in Dili </a:t>
            </a:r>
            <a:r>
              <a:rPr b="0" lang="id-ID" sz="2800" spc="-1" strike="noStrike">
                <a:solidFill>
                  <a:srgbClr val="ffffff"/>
                </a:solidFill>
                <a:latin typeface="Lucida Sans Unicode"/>
              </a:rPr>
              <a:t>a</a:t>
            </a:r>
            <a:r>
              <a:rPr b="0" lang="en-AU" sz="2800" spc="-1" strike="noStrike">
                <a:solidFill>
                  <a:srgbClr val="ffffff"/>
                </a:solidFill>
                <a:latin typeface="Lucida Sans Unicode"/>
              </a:rPr>
              <a:t>nd currently Hydrology can only collect data and not yet able to provide information to the public</a:t>
            </a:r>
            <a:r>
              <a:rPr b="0" lang="id-ID" sz="2800" spc="-1" strike="noStrike">
                <a:solidFill>
                  <a:srgbClr val="ffffff"/>
                </a:solidFill>
                <a:latin typeface="Lucida Sans Unicode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13" name="Title 3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Title 3" descr=""/>
          <p:cNvPicPr/>
          <p:nvPr/>
        </p:nvPicPr>
        <p:blipFill>
          <a:blip r:embed="rId1"/>
          <a:stretch/>
        </p:blipFill>
        <p:spPr>
          <a:xfrm>
            <a:off x="244440" y="165240"/>
            <a:ext cx="8491680" cy="1298520"/>
          </a:xfrm>
          <a:prstGeom prst="rect">
            <a:avLst/>
          </a:prstGeom>
          <a:ln w="0">
            <a:noFill/>
          </a:ln>
        </p:spPr>
      </p:pic>
      <p:pic>
        <p:nvPicPr>
          <p:cNvPr id="418" name="Content Placeholder 4" descr=""/>
          <p:cNvPicPr/>
          <p:nvPr/>
        </p:nvPicPr>
        <p:blipFill>
          <a:blip r:embed="rId2"/>
          <a:stretch/>
        </p:blipFill>
        <p:spPr>
          <a:xfrm>
            <a:off x="228600" y="1600200"/>
            <a:ext cx="83818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24T05:40:20Z</dcterms:created>
  <dc:creator>admin</dc:creator>
  <dc:description/>
  <dc:language>en-US</dc:language>
  <cp:lastModifiedBy>USER</cp:lastModifiedBy>
  <dcterms:modified xsi:type="dcterms:W3CDTF">2018-09-18T06:10:36Z</dcterms:modified>
  <cp:revision>69</cp:revision>
  <dc:subject/>
  <dc:title>COUNTRY REPORT</dc:title>
</cp:coreProperties>
</file>